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825-15D3-400B-A537-1FBAA73C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20F-50CC-4751-93D3-5D43CE2E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3BA-0C4E-49C5-817A-71C39E2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8DA-D4F7-44E8-9ABD-9375C387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D6B-9A84-46E2-87EA-3C06457A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0DB-754F-4FEC-8DB7-D2107DC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AF0-9B05-40CC-9048-5B9CF04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D68-0E3B-4C42-9C69-FA47448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AF3-9E62-4E8B-B63D-CE40A36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DDE-705A-46EF-84A5-CDED2A6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FF2-388A-46AA-84CE-EB12B9A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9A0-4F13-4435-B102-44E0740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F3B-8561-49A4-88D4-74DF2D86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3.2 Transi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tatus Repo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al/HRD and Vijay/E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HWRF and HWRFX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FIP Milestones: FY10-FY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ment of movable triply-nested (27/9/3) version of HWRF3.2/HWRFX (AOML, EMC);  expand coupler for triply-nested grid configuration (EMC, AOML), transferring code  to general WRF code repository (DTC, AOM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valuate local and the nonlocal boundary layer parameterization schemes  in HWRF and COAMPS-TC.  (EMC, ESRL, AOML, N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eam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the capability of performing idealized simulations with HWRF (AOML) and transition it to the community WRF code (AOML, D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se idealized framework for evaluation of various advanced micro-physics parameterization schemes in HWRF, AHW and COAMPS-TC  (HRD, ESRL, EMC , MMM, NRL, Hebrew Universit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up a demo HWRF system at 9:3 for this hurricane season and use the 3 km forecasts for benchmarking  27:9:3 (EMC-H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1: Code Transitions to HWRFV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of advanced nesting algorithm capable of providing multiple telescopic moving domain to EMC (complete). Testing was done within the operational framework at 2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29814" r="0" b="29814"/>
          <a:stretch/>
        </p:blipFill>
        <p:spPr>
          <a:xfrm>
            <a:off x="152280" y="14479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14907" r="0" b="14907"/>
          <a:stretch/>
        </p:blipFill>
        <p:spPr>
          <a:xfrm>
            <a:off x="4343400" y="1371600"/>
            <a:ext cx="44197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2: Ideal Code in HWRFV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idealized framework to HWRFV3.2. Testing is complete with HWRF physics at 9: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066680"/>
          <a:ext cx="2667240" cy="24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26672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rcRect l="0" t="37337" r="40000" b="0"/>
          <a:stretch/>
        </p:blipFill>
        <p:spPr>
          <a:xfrm>
            <a:off x="5867280" y="3962520"/>
            <a:ext cx="3124440" cy="257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0" t="37337" r="40000" b="0"/>
          <a:stretch/>
        </p:blipFill>
        <p:spPr>
          <a:xfrm>
            <a:off x="3048120" y="1828800"/>
            <a:ext cx="3200400" cy="2685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733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ual Goal For 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9:3 with ocean coupling, vortex initialization and new vortex tracking algorithm and benchmark our results at 3 km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configuring 27:9:3 for Ideal and real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40:17Z</dcterms:created>
  <dc:creator>gopal</dc:creator>
  <dc:description/>
  <dc:language>en-US</dc:language>
  <cp:lastModifiedBy>gopal</cp:lastModifiedBy>
  <dcterms:modified xsi:type="dcterms:W3CDTF">2010-06-17T02:23:19Z</dcterms:modified>
  <cp:revision>17</cp:revision>
  <dc:subject/>
  <dc:title>HWRFX-HWRF3.2 Transitions </dc:title>
</cp:coreProperties>
</file>